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448-5055-4B16-8F44-8D797C7E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134-A040-4E4E-BD56-8759ECF1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017-D6D0-43EE-BAFE-FBBB859C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E9A-3097-474F-80E2-2E4305F8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E1F-8C79-4D08-90CD-22BBA51E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9C8-7795-4E86-A85E-02DA762C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19F-1F63-44E0-B761-CB49A99C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10E-293F-457A-9E99-5C64A71E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645-99E7-40B7-8410-4FDA9350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F27-E2ED-4380-9928-B4AAEE20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D83-1821-45B6-8031-71FDE03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6FD-5667-4FDF-A3BA-3ED3269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1F53-0451-4777-9E50-192275722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00" y="609480"/>
            <a:ext cx="979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Times New Roman"/>
              </a:rPr>
              <a:t>Имам мир във сърцето. Имам мир във сърцето. Имам мир,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Times New Roman"/>
              </a:rPr>
              <a:t>чуден мир като река.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/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7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09480"/>
            <a:ext cx="9144000" cy="42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И любов във сърцето.</a:t>
            </a:r>
            <a:br>
              <a:rPr sz="6200"/>
            </a:b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И любов във сърцето.</a:t>
            </a:r>
            <a:br>
              <a:rPr sz="6200"/>
            </a:b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И любов имам</a:t>
            </a:r>
            <a:br>
              <a:rPr sz="6200"/>
            </a:b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като океан.</a:t>
            </a: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 /2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09480"/>
            <a:ext cx="9144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Радост блика във мене, радост блика във мене, извор чуден</a:t>
            </a:r>
            <a:br>
              <a:rPr sz="6200"/>
            </a:b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във моето сърце. </a:t>
            </a: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9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8:24:39Z</dcterms:created>
  <dc:creator>x</dc:creator>
  <dc:description/>
  <dc:language>en-US</dc:language>
  <cp:lastModifiedBy>TrifonTrifonow</cp:lastModifiedBy>
  <dcterms:modified xsi:type="dcterms:W3CDTF">2005-09-15T14:52:47Z</dcterms:modified>
  <cp:revision>6</cp:revision>
  <dc:subject/>
  <dc:title>PowerPoint Presentation</dc:title>
</cp:coreProperties>
</file>